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0CD-D992-4DB8-BD42-88E29319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341-EAC9-4806-B25B-CE06E27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D1F-D844-4366-A0E0-09343CBA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E29-C6B4-4CB8-88A2-DFD1CC57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E56-E5DE-4F93-A6E7-DCF8112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61A-5DC3-46E6-AC25-A1BB1E91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594-4157-4BB0-B1DD-665D93A2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D8A-9F4C-4E2E-9EE2-FDABB4B9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FC-6EBC-4C85-9633-AAF3F525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A2E-71BD-47D4-AC02-2348088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DBD-5211-47AF-9911-BA45B632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BC0-AAEA-451B-9D38-079834A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569145-8B21-418D-A574-BAF26C467E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ueba del ejercicio práctico del módul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44:08Z</dcterms:created>
  <dc:creator>L00507939</dc:creator>
  <dc:description/>
  <dc:language>en-US</dc:language>
  <cp:lastModifiedBy>L00507939</cp:lastModifiedBy>
  <dcterms:modified xsi:type="dcterms:W3CDTF">2008-07-28T02:44:24Z</dcterms:modified>
  <cp:revision>1</cp:revision>
  <dc:subject/>
  <dc:title>Prueba del ejercicio práctico del módulo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